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189-4D1A-4C40-AF09-BDBB209B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A98-D265-4672-BB33-62930E31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C39-ACCC-4F4D-A72E-017801E4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666-1278-4085-8888-C2440396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69C-B195-4177-966F-605BEF5F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593-B75D-47AB-A394-959D2A76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089-A6ED-4821-B5C2-B8C489FF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87D-38CA-4FBE-BFF5-17791C82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901-5F9C-4441-93BE-1AA2E571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1FD-42AF-485F-935E-DEB1FCB4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6CD-E19F-466C-9592-9A42BE31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A27-BE4E-49FC-A107-8636C569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D0C7-EC1C-428F-BEF7-F5AE6D928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7160" y="490680"/>
            <a:ext cx="82746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d colloids on mica covered with polylys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polylysine (3.5 mg/ml in d.i. wa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freshly cleaved mica for 1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h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goild colloids (fridge 702, Sigma *) dilluted 1:10 in d.i. w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5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 the sample in the desic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AGE: see next slid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Gold colloid 5 nm, Sigma G-1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ntration approx. 0.01% as HAuCl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ophysical Journa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92-997, 199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lloids1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4470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7:48:43Z</dcterms:created>
  <dc:creator>Dionne</dc:creator>
  <dc:description/>
  <dc:language>en-US</dc:language>
  <cp:lastModifiedBy>Henriette Jensenius</cp:lastModifiedBy>
  <dcterms:modified xsi:type="dcterms:W3CDTF">2003-05-21T09:51:10Z</dcterms:modified>
  <cp:revision>3</cp:revision>
  <dc:subject/>
  <dc:title>PowerPoint Presentation</dc:title>
</cp:coreProperties>
</file>